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9054-0C33-472F-8E8E-AD8EC0632A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86F1-1A99-417C-AF83-3639021DE9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E38-5478-4D43-A21E-44F0250E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2F6-E566-48D7-A00B-D7568315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EB7-0453-4CCF-B9D1-7F5D3229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3DB-3EDB-432C-8988-F6E5C25A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82A-08DB-4428-93C8-A32503A6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23B-97DA-45E8-AA3B-CC5900C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248-CCA2-445D-8576-082BA7BF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9D8-E3E1-4E16-B901-C1CA3D99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A06-9698-4AD9-A0B6-ABF1073A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D5A-7FAA-4D1B-B81D-693A45F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5F8-E622-4E2C-AC2B-1321EEC1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EC8-65A1-46B0-9311-E44FF21B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9B2-4CC3-4FDE-B859-4538AFF5530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cp:lastPrinted>2012-02-15T10:24:12Z</cp:lastPrinted>
  <dcterms:modified xsi:type="dcterms:W3CDTF">2013-03-01T09:57:25Z</dcterms:modified>
  <cp:revision>26</cp:revision>
  <dc:subject/>
  <dc:title>Diapositiva 1</dc:title>
</cp:coreProperties>
</file>